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BD3-435C-4F0A-950B-5DAEE8FD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96-164F-4E26-884C-FCD6F9C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A76-BCAF-4296-909C-5BE0833A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FC8-83F8-448B-9E0A-F23C6F77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A81-DC61-4257-9878-0302CF7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BB6-32FE-4B54-BEE7-7D166E8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0D3-8554-435C-B826-6E73A30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73-75E4-4AB8-B9E3-DA83EE9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722-481E-4C0B-BF50-D454643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7B9-AC5F-4552-8EA8-8149075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5E7-F49B-479F-ADF9-65CB9F78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7BD-2667-4530-892A-0557C88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EFB-CDAA-4B80-B421-36E644DE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Point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8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ng Sing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llocate single memory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new char; // Allocates one char and points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rt* pShort = new 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new 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the cells to certai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Char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Short = 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Int = 4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ree the memory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ng Array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new char[100]; // Allocate array of 100 ch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har[0]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Char[99] = 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[] pChar; // Must not forget the []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orget the [] when deleting arrays, then only the first cell will be freed. The rest cannot be used until program ex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 error is to allocate memory more than once without del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NULL; // Safe to point to NUL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t = new int; // Allocate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Int; // Clean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leaked 9*4 = 36 bytes of mem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gling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on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1 = new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2 = pChar1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ake pChar2 point to the same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 pCha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Char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Char2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Char2 is a dangling poin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C++ introduced reference parameters t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, programmers were forced to use pointers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rror prone, more difficult to read, and t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Paramet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 using pointers (also works in C++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hangeInput(int* p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Val = 5; // pVal may be NU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++ using references (does not work in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hangeInput(int&amp; r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Val = 5; // Guaranteed rVal refers to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arr[] = "Hello!"; // Declare a char array (null-termin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Arr = arr; // Pointer to char – same as ar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r[0] = 'F'; // Use [] operator with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pArr = arr; *pArr != '\0'; ++pArr) // Very funky co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pArr = (*pArr) + 1; // Increment ASCII value b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3200" y="541008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F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 = Gfmm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rtain types on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truncation that occurs from intege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pointers of one type to point to data of anothe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Div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OfSwings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OfHits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battingAverage = numOfHits / numOfSwing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Batting Average: %f”, battingAver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ing Average: 0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battingAverage = ((float)numOfHits) / numOfSwing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ing Average: 0.33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asting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var = ‘A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o problem, types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ll not compi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(int*)&amp;va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wor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areful when using type casts! We will see wh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Cas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pChar = buffer; // No type cast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*pCh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ort* pShort = (short*)buffer; // Must cast from char* to shor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Sh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(char)*pSh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buffer[] = { 1, 2, 3, 4, 5, 6, 7, 8, 9, 10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 = (int*)buffer; // Must cast from char* to i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+p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Value: %d\n", (char)*p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2240" y="3745080"/>
            <a:ext cx="13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ointers you can allocate memory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locate either one memory cell, or an array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ways remember to free allocated mem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22:23:41Z</dcterms:created>
  <dc:creator>Antonio Maiorano</dc:creator>
  <dc:description/>
  <dc:language>en-US</dc:language>
  <cp:lastModifiedBy>Tony</cp:lastModifiedBy>
  <dcterms:modified xsi:type="dcterms:W3CDTF">2003-08-23T18:08:32Z</dcterms:modified>
  <cp:revision>34</cp:revision>
  <dc:subject/>
  <dc:title>C/C++ Tutorial</dc:title>
</cp:coreProperties>
</file>